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0F4-DDCA-4949-A928-A7AE5CD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33E-26CC-4AD3-B270-494558C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D93-73F9-4CE8-B5CD-95A96657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FEE-11A0-4B19-9156-BA272DBA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163E-8031-4077-8E2A-E770C7A2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F2F4-586E-40E5-B73A-C2C7E81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D0B-BCB9-4837-A085-CE88DC3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CE66-1231-47E3-B267-AB1455D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FFD-12DF-47B9-85C5-6A2EFDC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ADDB-596E-4C29-B8AE-6BD5C9E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18E-9507-49F3-8CBF-73AC0D4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2AC-AA27-4120-95EA-84DA120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AD78-1B2A-41BA-B58C-4FB9283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430-4FAA-4E50-AD19-9CE334ED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D82D-2A4B-4C68-8F54-9557ADA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DA72-0805-4ABE-817A-5F6AD60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9014-F78E-473C-A2D9-13842214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E0E-3849-4412-BE1C-914A2BD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A51-AF66-4DC9-BD00-F4F8D6E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B0D-18BE-4205-9C1E-00A1BC6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D06-CBDE-4930-BECB-9197510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153-FB28-4D1C-ABE9-85680AF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67E-C96B-4A24-8B5C-BB3B6C6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3AE-569C-4AED-B718-2ADC341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5ED-5019-4AD5-B31B-3905D73CB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7CD5-32C7-4302-BFD4-38EE2CB57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bertson Parkway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d Neighborhood Walkway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onald Hori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an Anselmo 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63560" y="1905120"/>
            <a:ext cx="6356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Jaggers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4960" y="1905120"/>
            <a:ext cx="6273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nd of Albertson Parkway at Curie Drive &amp; Manil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6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here does the Albertson Parkway lead to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The Santa Teresa County Park Historic Area and Hiking Trail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ar Tree Lot, Curie Driv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Spring at Manila Way &amp;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5600" y="1905120"/>
            <a:ext cx="62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-Gulnac-Joice Ranch on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8800" y="1905120"/>
            <a:ext cx="6564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ice Trai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 Hil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igin of the Na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bertson Parkway was named after Gary Albertson, the leader of the group fighting for a freeway bypass to Monterey Highway, a deadly strip of road known as “Blood Alley.” Ironically, Albertson and 4 others were killed in a head-on crash on Monterey Highway in 1974. The park strip was named to memorialize Albertson, who lived in the neighborh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Ideas for the Albertson Parkway: Other Neighborhood Walkway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lkway to Los Paseos Park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71800" y="1905120"/>
            <a:ext cx="553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79720" y="1905120"/>
            <a:ext cx="5522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6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 at Cheltenham Way to Avenida Espa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3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76480" y="1905120"/>
            <a:ext cx="5529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The Albertson Parkway is an 80-foot wide strip of mostly undeveloped land under the PG&amp;E power towers that supply the Hitachi plantsite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55840" y="1905120"/>
            <a:ext cx="49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: Avenida Espana at Via Vist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king Rid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97000" y="1905120"/>
            <a:ext cx="548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gpark and Trail at Fontana Park, Almaden Valle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ntana Park Playg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09840" y="1905120"/>
            <a:ext cx="66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lker Park, Guadalupe River Trail by Chynowe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cations H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5440" y="1905120"/>
            <a:ext cx="6153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ve Oak Manor Park, Los Gat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7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ni-Park on Winchester Blvd., Campbe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The Albertson Parkway runs from Dondero Way and Cresta Vista Way near Santa Teresa School to Curie Drive and Manila Way near Santa Teresa County Park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W Christian Greenbelt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52520" y="1905120"/>
            <a:ext cx="697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chard Garden Park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tch Hetchy Trail, Mountain 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Redwood City Seaport Blvd.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00160" y="1905120"/>
            <a:ext cx="568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Pacific Shores Center, Redwood 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32040" y="1905120"/>
            <a:ext cx="601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wood Shores Bay Tra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the Albertson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ing paths, crushed stone instead of asph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, bushes, flowers, lawns, ground co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es, picnic tables, shade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fountains, decorative fountains, p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ive signs, bulletin bo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pointing to Santa Teresa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areas, fitness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sh cans, pooper sco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ing, emergency call 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r bicyc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walks between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in the Albertson Parkway 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ight sidew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l g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from Cresta Vista Way near Dondero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92320" y="1905120"/>
            <a:ext cx="549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at Esteban Way &amp; Morag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33400" y="1905120"/>
            <a:ext cx="621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Before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6560" y="1905120"/>
            <a:ext cx="58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8480" y="1905120"/>
            <a:ext cx="5745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01:40Z</dcterms:created>
  <dc:creator> </dc:creator>
  <dc:description/>
  <dc:language>en-US</dc:language>
  <cp:lastModifiedBy> </cp:lastModifiedBy>
  <dcterms:modified xsi:type="dcterms:W3CDTF">2007-04-18T18:00:02Z</dcterms:modified>
  <cp:revision>33</cp:revision>
  <dc:subject/>
  <dc:title>Albertson Parkway</dc:title>
</cp:coreProperties>
</file>