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C664-949D-4277-82BE-21CDCAAE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A68-F2C5-403E-9E18-AAAD79AF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B61-3BD6-4FA8-B9B4-B6F7699A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54FA-4906-4375-81D9-459EA1B4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12CB-D2C0-48BB-8E37-12F1E33E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9FF7-506B-4EF5-9410-95E56D12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9107-411E-4EA9-9B9D-8EA115E7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F211-4784-43F5-AB9D-4F813A7B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E6AE-F581-4D7C-AB2A-10707756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E33A-6EC1-407B-AEEC-EF7F561E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8E74-7F45-4C10-A9C5-8FD210F5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0C1-58A3-4BD4-BC0B-03F178C9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FD8C-438A-4F54-9DAC-287D48F2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F5F9-778F-4380-B204-C5DFC4D3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EA58-114A-4B4E-B74F-413CCD27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60F8-2074-4F1A-9FBA-29D9BC11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75D4-F7D0-486E-A694-066963FF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48FA-9571-4BE7-B371-6C559EE3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F58-3767-424B-ADE4-13DDF7DE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C5E-195D-498E-8C6A-02FFDC8D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7F8F-6BA8-4874-93FD-777C5AFD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86EB-5840-4669-B4EA-3F41A5C4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4D5C-9CBE-4CE5-9AA2-A6414BDD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546-9040-49F5-A289-44499878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F2C7-02B8-45BC-A7B9-A64FBB4E6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7F15-1F06-46AA-BEEE-83BC4BE68A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lbertson Parkway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nd Neighborhood Walkways</a:t>
            </a:r>
            <a:br>
              <a:rPr sz="5400"/>
            </a:br>
            <a:br>
              <a:rPr sz="54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y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onald Horii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bertson Parkway at San Anselmo 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63560" y="1905120"/>
            <a:ext cx="6356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bertson Parkway at Jaggers Dri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04960" y="1905120"/>
            <a:ext cx="6273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nd of Albertson Parkway at Curie Drive &amp; Manila Wa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56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Where does the Albertson Parkway lead to?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385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The Santa Teresa County Park Historic Area and Hiking Trails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ar Tree Lot, Curie Driv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nta Teresa County Pa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nta Teresa Spring at Manila Way &amp; Manila Dri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5600" y="1905120"/>
            <a:ext cx="6291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rnal-Gulnac-Joice Ranch on Manila Dri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58800" y="1905120"/>
            <a:ext cx="6564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oice Trail, Santa Teresa County Pa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rnal Hill, Santa Teresa County Pa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igin of the Na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bertson Parkway was named after Gary Albertson, the leader of the group fighting for a freeway bypass to Monterey Highway, a deadly strip of road known as “Blood Alley.” Ironically, Albertson and 4 others were killed in a head-on crash on Monterey Highway in 1974. The park strip was named to memorialize Albertson, who lived in the neighborh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Ideas for the Albertson Parkway: Other Neighborhood Walkways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lkway to Los Paseos Park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s Paseos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71800" y="1905120"/>
            <a:ext cx="5538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s Paseos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s Paseos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079720" y="1905120"/>
            <a:ext cx="5522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venida Espana-Bayliss Drive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847880" y="1905120"/>
            <a:ext cx="5986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venida Espana-Bayliss Drive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alkway Entrance at Cheltenham Way to Avenida Espan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391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d-way on Cheltenham-Avenida Espana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076480" y="1905120"/>
            <a:ext cx="55292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d-way on Cheltenham-Avenida Espana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The Albertson Parkway is an 80-foot wide strip of mostly undeveloped land under the PG&amp;E power towers that supply the Hitachi plantsite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55840" y="1905120"/>
            <a:ext cx="4970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alkway Entrance: Avenida Espana at Via Vist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sking Rid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ergreen Valley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97000" y="1905120"/>
            <a:ext cx="5489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ergreen Valley Par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ogpark and Trail at Fontana Park, Almaden Valle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ntana Park Playgrou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09840" y="1905120"/>
            <a:ext cx="6662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ilker Park, Guadalupe River Trail by Chynowet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046240" y="1905120"/>
            <a:ext cx="5591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munications Hil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65440" y="1905120"/>
            <a:ext cx="6153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91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ve Oak Manor Park, Los Gat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847880" y="1905120"/>
            <a:ext cx="5987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ni-Park on Winchester Blvd., Campbel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The Albertson Parkway runs from Dondero Way and Cresta Vista Way near Santa Teresa School to Curie Drive and Manila Way near Santa Teresa County Park.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46240" y="1905120"/>
            <a:ext cx="5591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W Christian Greenbelt,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nnyva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352520" y="1905120"/>
            <a:ext cx="6978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chard Garden Park,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nnyva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etch Hetchy Trail, Mountain Vie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nford Neighborhood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nford Neighborhood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y Trail: Redwood City Seaport Blvd.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000160" y="1905120"/>
            <a:ext cx="5681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y Trail: Pacific Shores Center, Redwood C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832040" y="1905120"/>
            <a:ext cx="6019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dwood Shores Bay Trai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deas for the Albertson Par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ing paths, crushed stone instead of asph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es, bushes, flowers, lawns, ground co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ty gard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ches, picnic tables, shade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nking fountains, decorative fountains, p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pretive signs, bulletin bo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 pointing to Santa Teresa Pa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 areas, fitness 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sh cans, pooper scoo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ing, emergency call bo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ier bicycle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walks between se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in the Albertson Parkway Now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ight sidewa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l g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t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ew tr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lbertson Parkway from Cresta Vista Way near Dondero Wa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92320" y="1905120"/>
            <a:ext cx="549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lbertson Parkway at Esteban Way &amp; Moraga Wa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33400" y="1905120"/>
            <a:ext cx="6215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bertson Parkway Before Solano Dri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06560" y="1905120"/>
            <a:ext cx="5870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bertson Parkway at Solano Dri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8480" y="1905120"/>
            <a:ext cx="57452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4:01:40Z</dcterms:created>
  <dc:creator> </dc:creator>
  <dc:description/>
  <dc:language>en-US</dc:language>
  <cp:lastModifiedBy> </cp:lastModifiedBy>
  <dcterms:modified xsi:type="dcterms:W3CDTF">2007-04-18T18:00:02Z</dcterms:modified>
  <cp:revision>33</cp:revision>
  <dc:subject/>
  <dc:title>Albertson Parkway</dc:title>
</cp:coreProperties>
</file>