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ED7-0323-4C0B-B27C-EC4BB47A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86D-4858-4757-8016-AA7AF74D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E7C-7E67-4622-BC77-934FB94B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D6A-FE77-44FC-870B-35541CF4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652C-B86A-4953-8FED-B8229884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A1DA-6A85-4EC5-9937-A8282489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ECC9-BE63-4BE4-A59D-575CA6AE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7926-F677-46F0-8DCB-266397EE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A622-3B71-4861-B61D-764F0B82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027A-FEBA-42A3-99B9-3BD0DB38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6713-077D-45CC-AB54-2554C50F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5B9-48F2-4B89-A108-EE0C85FA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EA65-BC7D-477E-8455-15CAFA95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C086-415E-4A31-A745-D5E8AC3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185C-2736-42C0-92C4-D63E4A58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B5DC-4F0B-4AF5-AA34-2A004DFA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55B3-4FC0-4F49-BC0C-9884E3B4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AE5-132B-4F8C-B49E-92083EC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94D-C71D-4910-ACB3-C3D6F1B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DDA-400B-4AE5-9399-E6C7A2DF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825-146F-46A0-B5DD-ABD62E6B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C49-D38B-408D-B292-29068567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239-DB51-48E8-B68D-B1BDA19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766-F3FA-4C78-B691-030C8E37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AE5B-CC96-439F-A729-E7E1ADDF1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1220-6B15-477D-A56C-5F810E44C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lbertson Parkway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d Neighborhood Walkways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onald Hori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at San Anselmo 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63560" y="1905120"/>
            <a:ext cx="6356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at Jaggers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04960" y="1905120"/>
            <a:ext cx="6273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nd of Albertson Parkway at Curie Drive &amp; Manila Wa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6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here does the Albertson Parkway lead to?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385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The Santa Teresa County Park Historic Area and Hiking Trail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ar Tree Lot, Curie Drive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nta Teresa County Pa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anta Teresa Spring at Manila Way &amp; Manila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5600" y="1905120"/>
            <a:ext cx="629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rnal-Gulnac-Joice Ranch on Manila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58800" y="1905120"/>
            <a:ext cx="6564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oice Trail, Santa Teresa County Pa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rnal Hill, Santa Teresa County Pa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igin of the Na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bertson Parkway was named after Gary Albertson, the leader of the group fighting for a freeway bypass to Monterey Highway, a deadly strip of road known as “Blood Alley.” Ironically, Albertson and 4 others were killed in a head-on crash on Monterey Highway in 1974. The park strip was named to memorialize Albertson, who lived in the neighborh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Ideas for the Albertson Parkway: Other Neighborhood Walkways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lkway to Los Paseos Park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s Paseos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71800" y="1905120"/>
            <a:ext cx="5538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s Paseos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s Paseos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79720" y="1905120"/>
            <a:ext cx="5522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venida Espana-Bayliss Drive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47880" y="1905120"/>
            <a:ext cx="5986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venida Espana-Bayliss Drive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alkway Entrance at Cheltenham Way to Avenida Espan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39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d-way on Cheltenham-Avenida Espana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76480" y="1905120"/>
            <a:ext cx="5529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d-way on Cheltenham-Avenida Espana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The Albertson Parkway is an 80-foot wide strip of mostly undeveloped land under the PG&amp;E power towers that supply the Hitachi plantsite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55840" y="1905120"/>
            <a:ext cx="4970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alkway Entrance: Avenida Espana at Via Vist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sking Rid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ergreen Valley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97000" y="1905120"/>
            <a:ext cx="5489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ergreen Valley Par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ogpark and Trail at Fontana Park, Almaden Valle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ontana Park Playgrou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09840" y="1905120"/>
            <a:ext cx="6662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ilker Park, Guadalupe River Trail by Chynowet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46240" y="1905120"/>
            <a:ext cx="559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cations Hi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5440" y="1905120"/>
            <a:ext cx="6153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ve Oak Manor Park, Los Gato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47880" y="1905120"/>
            <a:ext cx="5987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ni-Park on Winchester Blvd., Campbel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The Albertson Parkway runs from Dondero Way and Cresta Vista Way near Santa Teresa School to Curie Drive and Manila Way near Santa Teresa County Park.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46240" y="1905120"/>
            <a:ext cx="5591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W Christian Greenbelt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nnyv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52520" y="1905120"/>
            <a:ext cx="6978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rchard Garden Park,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nnyv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etch Hetchy Trail, Mountain View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nford Neighborhood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anford Neighborhood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y Trail: Redwood City Seaport Blvd. Wal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00160" y="1905120"/>
            <a:ext cx="5681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y Trail: Pacific Shores Center, Redwood C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832040" y="1905120"/>
            <a:ext cx="60195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dwood Shores Bay Tra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deas for the Albertson Parkwa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ing paths, crushed stone instead of asph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es, bushes, flowers, lawns, ground cov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gard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ches, picnic tables, shade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nking fountains, decorative fountains, p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pretive signs, bulletin bo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 pointing to Santa Teresa Pa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areas, fitness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sh cans, pooper scoo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ing, emergency call bo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ier bicyc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walks between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in the Albertson Parkway 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ight sidewa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l g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t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ew 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bertson Parkway from Cresta Vista Way near Dondero Wa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92320" y="1905120"/>
            <a:ext cx="549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lbertson Parkway at Esteban Way &amp; Moraga Wa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33400" y="1905120"/>
            <a:ext cx="6215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Before Solano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6560" y="1905120"/>
            <a:ext cx="5870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lbertson Parkway at Solano Driv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8480" y="1905120"/>
            <a:ext cx="5745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4:01:40Z</dcterms:created>
  <dc:creator> </dc:creator>
  <dc:description/>
  <dc:language>en-US</dc:language>
  <cp:lastModifiedBy> </cp:lastModifiedBy>
  <dcterms:modified xsi:type="dcterms:W3CDTF">2007-04-18T18:00:02Z</dcterms:modified>
  <cp:revision>33</cp:revision>
  <dc:subject/>
  <dc:title>Albertson Parkway</dc:title>
</cp:coreProperties>
</file>